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6C96-A0CC-4336-AEA4-7E86B0AC5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1D9F-514A-4E7B-B83A-4987E3BD1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F4FF-9244-46DA-8B08-83F52603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E60-8B83-4BF0-9D87-6AA685B8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C33-1A0C-44B2-88FD-EDA6686D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B0D-051D-429F-A450-AB084B74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BB24-9250-4133-9757-5A0B81F6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3699-64A9-486B-A83A-C4116416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9936-D32D-4C4C-B607-7B6DC307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CE09-4308-44A1-963E-2AA8D05F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F36B-689A-4964-8108-8C6DA5C4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BE6D-8FEB-4DF7-8016-342F1EB4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2356-00AA-4328-9D25-97D2EEE0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317-6632-4A2A-A187-8055AA44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A905-7376-447A-9CFD-A13084B9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1102-3357-4B86-AB0A-46C063EC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6456-1DF2-408D-BE76-3EA4F208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418E-66A1-44D7-B607-840CF813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7EA4-ADDB-47E5-B2F7-B5137D00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03A3-9ACC-487A-9F31-608EE4D6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1B3-2A04-406B-B4B7-FB133B41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596-EF36-44F4-BDDF-61F6633D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208-A9DF-4E82-A017-26FD7D9E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BEA-533D-455E-B2AB-FCD46406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FC3-2E44-46EE-9416-CF71997B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244-F445-4682-A151-4F55DA19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b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b0a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80008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b0a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8000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C6A8-2AE7-48A8-9709-324B79772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b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b0a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80008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b0a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8000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347E-3977-4CC8-A90C-96EE2BC1D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hyperlink" Target="http://www.tcu.gov.on.ca/eng/eopg/publications/87-1734E-es_participant_registration.doc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2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3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4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5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cu.gov.on.ca/eng/search.html" TargetMode="External"/><Relationship Id="rId2" Type="http://schemas.openxmlformats.org/officeDocument/2006/relationships/hyperlink" Target="http://www.ontario.ca/" TargetMode="External"/><Relationship Id="rId3" Type="http://schemas.openxmlformats.org/officeDocument/2006/relationships/image" Target="../media/image5.wmf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680"/>
            <a:ext cx="7239240" cy="18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The Career Foundation</a:t>
            </a:r>
            <a:br>
              <a:rPr sz="4800"/>
            </a:b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4920" y="3427200"/>
            <a:ext cx="738684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Employment Ontar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Orientation Ses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13" descr="general"/>
          <p:cNvPicPr/>
          <p:nvPr/>
        </p:nvPicPr>
        <p:blipFill>
          <a:blip r:embed="rId1"/>
          <a:stretch/>
        </p:blipFill>
        <p:spPr>
          <a:xfrm>
            <a:off x="457200" y="15228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careerfoundation.cxwa-dev.cyberplex.com/uploaded/tiny_mce/File/Marketing/tabs.jpg?preview=true?preview=true"/>
          <p:cNvPicPr/>
          <p:nvPr/>
        </p:nvPicPr>
        <p:blipFill>
          <a:blip r:embed="rId2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Red Eo.jpg"/>
          <p:cNvPicPr/>
          <p:nvPr/>
        </p:nvPicPr>
        <p:blipFill>
          <a:blip r:embed="rId3"/>
          <a:stretch/>
        </p:blipFill>
        <p:spPr>
          <a:xfrm>
            <a:off x="3200400" y="4800600"/>
            <a:ext cx="2971800" cy="1187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How to access Employment Ontario services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39" name="Picture 7" descr="general"/>
          <p:cNvPicPr/>
          <p:nvPr/>
        </p:nvPicPr>
        <p:blipFill>
          <a:blip r:embed="rId1"/>
          <a:stretch/>
        </p:blipFill>
        <p:spPr>
          <a:xfrm>
            <a:off x="609480" y="15228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1295280" y="1523880"/>
            <a:ext cx="7313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#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CCESS RESOURCES &amp; INF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wish to use career/computer resources &amp; job search workshops to job search on your ow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#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INDIVIDUALIZED EMPLOYMENT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need one-to-one assistance to look for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lete the following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80"/>
                </a:solidFill>
                <a:uFillTx/>
                <a:latin typeface="Verdana"/>
                <a:hlinkClick r:id="rId4"/>
              </a:rPr>
              <a:t>http://www.tcu.gov.on.ca/eng/eopg/publications/87-1734E-es_participant_registration.do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end an appointment with an Employment Counsellor to assess employment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tain a customized Employment Service 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end job search coaching sessions until you get a j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805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Employment Ontario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offices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oronto West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90360" y="1523520"/>
            <a:ext cx="769284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Career Foundation. Ontario Employment Servic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tobicoke Employment Centre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35-109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wrence Square Employment Centre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43-006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ston Employment Centre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789-486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YMCA of Greater Toronto. Employment and Community Services. Etobicoke. Ontario Employment Services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bion Mall, 1530 Albion Rd Unit 83, Toronto, ON M9V 1B4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741-8714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3"/>
              </a:rPr>
              <a:t>Humber College. Ontario Employment Services. North Etobicoke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4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20 Albion Rd 2nd Fl, Toronto, ON M9V 4B4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748-7200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5"/>
              </a:rPr>
              <a:t>PTP -- Adult Learning and Employment Programs. Ontario Employment Services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415 Dundas St West Ste 106, Toronto, ON M9B 1B5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39-880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JobStart. Ontario Employment Services. Lake Shore Boulevard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930 Lake Shore Blvd West, Toronto, ON M8V 1J4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31-2295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munity MicroSkills Development Centre. Ontario Employment Services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 Vulcan St, Toronto, ON M9W 1L3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47-718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6" descr="http://careerfoundation.cxwa-dev.cyberplex.com/uploaded/tiny_mce/File/Marketing/tabs.jpg?preview=true?preview=true"/>
          <p:cNvPicPr/>
          <p:nvPr/>
        </p:nvPicPr>
        <p:blipFill>
          <a:blip r:embed="rId6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Referral Process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680" y="1905120"/>
            <a:ext cx="73137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26"/>
              </a:spcBef>
              <a:buClr>
                <a:srgbClr val="8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ll the 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Employment Ontario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fice to set up a screening appoint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EER FOUNDATION REFERRAL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sign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 client come into the Employment Ontario office with a completed Referral for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general"/>
          <p:cNvPicPr/>
          <p:nvPr/>
        </p:nvPicPr>
        <p:blipFill>
          <a:blip r:embed="rId2"/>
          <a:stretch/>
        </p:blipFill>
        <p:spPr>
          <a:xfrm>
            <a:off x="457200" y="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http://careerfoundation.cxwa-dev.cyberplex.com/uploaded/tiny_mce/File/Marketing/tabs.jpg?preview=true?preview=true"/>
          <p:cNvPicPr/>
          <p:nvPr/>
        </p:nvPicPr>
        <p:blipFill>
          <a:blip r:embed="rId4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800080"/>
                </a:solidFill>
                <a:latin typeface="Arial"/>
              </a:rPr>
              <a:t>Question &amp; Answer Period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53" name="Picture 2" descr="C:\Users\nicole\AppData\Local\Microsoft\Windows\Temporary Internet Files\Content.IE5\YUHZPDZH\MC900389266[1].wmf"/>
          <p:cNvPicPr/>
          <p:nvPr/>
        </p:nvPicPr>
        <p:blipFill>
          <a:blip r:embed="rId1"/>
          <a:stretch/>
        </p:blipFill>
        <p:spPr>
          <a:xfrm>
            <a:off x="3581280" y="1905120"/>
            <a:ext cx="2743200" cy="3962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The Career Foundat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Would like to thank-you for your attendan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Have a Great Day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13" descr="general"/>
          <p:cNvPicPr/>
          <p:nvPr/>
        </p:nvPicPr>
        <p:blipFill>
          <a:blip r:embed="rId1"/>
          <a:stretch/>
        </p:blipFill>
        <p:spPr>
          <a:xfrm>
            <a:off x="1752480" y="304920"/>
            <a:ext cx="6858000" cy="1104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137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Employment Ontario </a:t>
            </a: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Full Suite Services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599840"/>
            <a:ext cx="731340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NE STOP SHO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9b95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mployment services customized to meet job seeker’s individual nee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ent Service Planning &amp; Coordin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ource &amp; Informa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ncluding referrals &amp; train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ob Search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ob Matching, Placements &amp; Incen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ob Retention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general"/>
          <p:cNvPicPr/>
          <p:nvPr/>
        </p:nvPicPr>
        <p:blipFill>
          <a:blip r:embed="rId1"/>
          <a:stretch/>
        </p:blipFill>
        <p:spPr>
          <a:xfrm>
            <a:off x="380880" y="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loyment Ontario Servic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unched in Ontario 2006 with the Apprenticeship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implemented across Ontario as of August 1st, 201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general"/>
          <p:cNvPicPr/>
          <p:nvPr/>
        </p:nvPicPr>
        <p:blipFill>
          <a:blip r:embed="rId1"/>
          <a:stretch/>
        </p:blipFill>
        <p:spPr>
          <a:xfrm>
            <a:off x="838080" y="114480"/>
            <a:ext cx="2057400" cy="799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Purpose: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help unemployed Ontar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fi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stainable employ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6" descr="http://careerfoundation.cxwa-dev.cyberplex.com/uploaded/tiny_mce/File/Marketing/tabs.jpg?preview=true?preview=true"/>
          <p:cNvPicPr/>
          <p:nvPr/>
        </p:nvPicPr>
        <p:blipFill>
          <a:blip r:embed="rId1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general"/>
          <p:cNvPicPr/>
          <p:nvPr/>
        </p:nvPicPr>
        <p:blipFill>
          <a:blip r:embed="rId2"/>
          <a:stretch/>
        </p:blipFill>
        <p:spPr>
          <a:xfrm>
            <a:off x="533520" y="0"/>
            <a:ext cx="2057400" cy="800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Vision of Employment Ontario: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28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ari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h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22860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educated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2860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skilled workforce in North America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to build the province’s competi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1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general"/>
          <p:cNvPicPr/>
          <p:nvPr/>
        </p:nvPicPr>
        <p:blipFill>
          <a:blip r:embed="rId2"/>
          <a:stretch/>
        </p:blipFill>
        <p:spPr>
          <a:xfrm>
            <a:off x="685800" y="15228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mployment Ontario’s Service Promise will: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827360"/>
            <a:ext cx="761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est quality of service and suppo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elp individuals meet their career or hiring go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opportunities to make it easier for individuals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prove their skil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education and tra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that no matter which Employment Ontario office an individual walks into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y will get the help they n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mployers and communit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uild the highly skilled, highly educated workforce Ontario needs to be competitiv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4" descr=""/>
          <p:cNvPicPr/>
          <p:nvPr/>
        </p:nvPicPr>
        <p:blipFill>
          <a:blip r:embed="rId1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general"/>
          <p:cNvPicPr/>
          <p:nvPr/>
        </p:nvPicPr>
        <p:blipFill>
          <a:blip r:embed="rId2"/>
          <a:stretch/>
        </p:blipFill>
        <p:spPr>
          <a:xfrm>
            <a:off x="609480" y="152280"/>
            <a:ext cx="2057400" cy="838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The Career Foundation offers the following through MTCU’s Employment Ontario model: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313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1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Client Service Planning &amp; Coordinatin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eds Assessment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mployment Service Plan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ferral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2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Resource &amp; Informa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bour market information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Job search/career resour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ation on education &amp; training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mputers/Internet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3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Job Search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dividual assistance in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reer decision making,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goal setting,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skills analysis &amp; interview,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mployment preparation and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job search suppor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4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Job Matching, Placement and Incentiv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tching of skills and interest with employment opportunities and job seeker needs.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Depending on training needs, incentives can be provide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5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Job Training and Retent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itional coaching and mentoring to maintain employment, complete training, or proceed to the next steps of your career path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general"/>
          <p:cNvPicPr/>
          <p:nvPr/>
        </p:nvPicPr>
        <p:blipFill>
          <a:blip r:embed="rId2"/>
          <a:stretch/>
        </p:blipFill>
        <p:spPr>
          <a:xfrm>
            <a:off x="533520" y="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Guide to Services in Ontario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Employment Ontari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d out how and where you can access many government servic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http://www.tcu.gov.on.ca/eng/search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http://www.ontario.ca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211 Ontario and Toront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fers easy access to community, social, health and related government servic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211ontario.ca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211toronto.ca/splash.js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ettlement Servic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des information and answers to settle in Onta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settlement.org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general"/>
          <p:cNvPicPr/>
          <p:nvPr/>
        </p:nvPicPr>
        <p:blipFill>
          <a:blip r:embed="rId4"/>
          <a:stretch/>
        </p:blipFill>
        <p:spPr>
          <a:xfrm>
            <a:off x="609480" y="15228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careerfoundation.cxwa-dev.cyberplex.com/uploaded/tiny_mce/File/Marketing/tabs.jpg?preview=true?preview=true"/>
          <p:cNvPicPr/>
          <p:nvPr/>
        </p:nvPicPr>
        <p:blipFill>
          <a:blip r:embed="rId5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800080"/>
                </a:solidFill>
                <a:latin typeface="Arial"/>
              </a:rPr>
              <a:t>Eligibility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FOR INDEPENDENT JOB SEARCH - </a:t>
            </a:r>
            <a:r>
              <a:rPr b="0" i="1" lang="en-CA" sz="2000" spc="-1" strike="noStrike">
                <a:solidFill>
                  <a:srgbClr val="000000"/>
                </a:solidFill>
                <a:latin typeface="Verdana"/>
              </a:rPr>
              <a:t>UNASSI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All Ontaria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FOR 1-1 ASSISTANCE IN JOB SEARCH -</a:t>
            </a:r>
            <a:r>
              <a:rPr b="0" i="1" lang="en-CA" sz="2000" spc="-1" strike="noStrike">
                <a:solidFill>
                  <a:srgbClr val="000000"/>
                </a:solidFill>
                <a:latin typeface="Verdana"/>
              </a:rPr>
              <a:t>ASSI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Unemployed: </a:t>
            </a:r>
            <a:r>
              <a:rPr b="0" i="1" lang="en-CA" sz="2400" spc="-1" strike="noStrike">
                <a:solidFill>
                  <a:srgbClr val="000000"/>
                </a:solidFill>
                <a:latin typeface="Verdana"/>
              </a:rPr>
              <a:t>working less than 20 hours per 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Not in Full-time studies/trai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Legally entitled to work in Canad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Based on individual employment service nee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5:32:56Z</dcterms:created>
  <dc:creator>zaira</dc:creator>
  <dc:description/>
  <dc:language>en-US</dc:language>
  <cp:lastModifiedBy>aholmes</cp:lastModifiedBy>
  <cp:lastPrinted>2011-05-16T17:59:17Z</cp:lastPrinted>
  <dcterms:modified xsi:type="dcterms:W3CDTF">2011-07-08T18:59:11Z</dcterms:modified>
  <cp:revision>173</cp:revision>
  <dc:subject/>
  <dc:title>You’re Hired! Now what???</dc:title>
</cp:coreProperties>
</file>